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1924"/>
        <c:axId val="35300554"/>
      </c:barChart>
      <c:catAx>
        <c:axId val="66619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00554"/>
        <c:crosses val="autoZero"/>
        <c:auto val="1"/>
        <c:lblAlgn val="ctr"/>
        <c:lblOffset val="100"/>
        <c:noMultiLvlLbl val="0"/>
      </c:catAx>
      <c:valAx>
        <c:axId val="35300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19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1B07-AC7E-44CC-9B8A-FB9AF956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98E-BFD7-4A5B-91F8-D422B00D5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3D82-9B4A-4656-8E8C-C824179B3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49F2-AF7C-4B89-9B03-062BF56C3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CE37-7A0F-4807-905C-278FCD46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70F-4184-4CB0-88A1-B6B71E41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65B9-9960-49D5-964B-739FA7F4E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999-65E8-4359-A3DE-D51131E6A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FF6-877D-4430-8D25-6C1FC2C4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9D4E-1E27-41D8-A07B-7AEDE5C9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41BA-8651-4319-9D21-13F132A68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AF37-4088-469C-B4F5-678EF3B1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D5AE3-0E41-48ED-BE57-BB7F781C213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