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43151"/>
        <c:axId val="90569010"/>
      </c:barChart>
      <c:catAx>
        <c:axId val="19443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9010"/>
        <c:crosses val="autoZero"/>
        <c:auto val="1"/>
        <c:lblAlgn val="ctr"/>
        <c:lblOffset val="100"/>
        <c:noMultiLvlLbl val="0"/>
      </c:catAx>
      <c:valAx>
        <c:axId val="90569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3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FE7-A05F-491E-A11F-4BE77DD4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115-CCBD-40C8-90A3-47E264D5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31B-6A9B-4C70-8D6C-8E510352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A77-121C-4609-80D0-4236ABE4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919-3A9D-4561-AD8C-74BC73F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57F-AA71-4A4A-912B-10C6480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B0A-83FA-43DB-9B2D-46569039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637-75B4-4E7C-AA5C-8852E35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38A-FF90-48C5-B738-74E1358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338-1DC9-4BD4-A62F-2782D48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877-CE71-43F7-B14F-F658C162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445-4DA1-4B2A-AB86-CCC40E5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796C6-FCB6-4CB6-B261-2CA5EE2437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