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24407"/>
        <c:axId val="73118201"/>
      </c:barChart>
      <c:catAx>
        <c:axId val="55724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18201"/>
        <c:crosses val="autoZero"/>
        <c:auto val="1"/>
        <c:lblAlgn val="ctr"/>
        <c:lblOffset val="100"/>
        <c:noMultiLvlLbl val="0"/>
      </c:catAx>
      <c:valAx>
        <c:axId val="73118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24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958-77A5-4140-914C-86C80027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365-B083-4221-8341-E924D2C5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D2F-3CE7-4FF3-80ED-1D906426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EA0-7B43-470E-BB86-1C5BB900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C67-076D-4537-907D-373F9620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015A-53CD-49FF-9248-DF809987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BA2-B134-43EF-A6A7-BA2DB353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8D4-659D-4315-9C5E-48EE2F57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B01-7EF3-46AA-8894-C2137022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F2D-D0EA-4E0D-AF17-B1F5AAE4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098-4E92-4DF6-ACA7-511C7A07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83E-7CE2-4510-980F-009E7F3F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C092A-124B-45FA-93B5-F5482E6ED9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