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401441"/>
        <c:axId val="35329498"/>
      </c:barChart>
      <c:catAx>
        <c:axId val="20401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29498"/>
        <c:crosses val="autoZero"/>
        <c:auto val="1"/>
        <c:lblAlgn val="ctr"/>
        <c:lblOffset val="100"/>
        <c:noMultiLvlLbl val="0"/>
      </c:catAx>
      <c:valAx>
        <c:axId val="353294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01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0484-EED5-4395-9A8F-0E02D788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D075-6652-4CB4-9BC8-6309D910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94A-546F-44C4-967A-490C9D7A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609-94DB-4BA7-89FC-65EFCB35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DF6-C832-43BF-B959-9D03EB57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880-BFE3-4ADB-85B7-A7C06A66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37C-672F-4DC9-B263-E1BB45D4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D16-C937-43E7-B67C-15EA0812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F4F7-B953-4B46-8F0A-702F3EAA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AA7-645B-4C01-8A60-9AA73FEB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40DE-30F4-48F6-952D-74331830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0DE6-F217-4CAB-AF8F-8A2F0E18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FEAAF-DD2A-4181-A9C7-0C248471D6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