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66090"/>
        <c:axId val="99050873"/>
      </c:barChart>
      <c:catAx>
        <c:axId val="610660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50873"/>
        <c:crosses val="autoZero"/>
        <c:auto val="1"/>
        <c:lblAlgn val="ctr"/>
        <c:lblOffset val="100"/>
        <c:noMultiLvlLbl val="0"/>
      </c:catAx>
      <c:valAx>
        <c:axId val="99050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660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A53-C9ED-4420-A39E-941BC7A1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0DE-CBF5-42A8-9BCE-BD669117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F35-B0F5-4041-A792-CD2B0426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35C-752E-43AA-9DFD-E33F8BD3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2A3-CBBA-40AE-A412-8D307188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3C9-A678-4F2F-AED2-9B511FDF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AB6-72A6-42A1-A3D6-2EBBEAE8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564-2771-49F4-811D-1A51287B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58C-A222-4EF4-852E-0A4EAB1F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C14-D57C-4D3E-BDAC-15694BA3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CAE-7EF4-4A69-896F-6BD92065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9F85-52F0-47D2-97E7-9C9A14BE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901FC-B8E9-471B-9023-64B1944412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