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480800"/>
        <c:axId val="9467807"/>
      </c:barChart>
      <c:catAx>
        <c:axId val="584808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7807"/>
        <c:crosses val="autoZero"/>
        <c:auto val="1"/>
        <c:lblAlgn val="ctr"/>
        <c:lblOffset val="100"/>
        <c:noMultiLvlLbl val="0"/>
      </c:catAx>
      <c:valAx>
        <c:axId val="94678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808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CECF-4FF4-4A3B-9831-7A60B9DC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F1A8-6D64-4694-886C-028F9BA0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4884-BED2-424B-84B8-B4D46A0C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05DD-55A9-4260-8DFE-E26DC9CA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0247-77C2-4459-9D94-FB8EAA1D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639D-27E6-4005-B6DB-FE0CD1AB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FEEF-EBA6-4E31-AE0A-92E3A700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9419-E67C-47E4-B4F2-AD758538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721A-7AB1-47D2-8AD9-A6986D92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1790-5884-4BCA-BCAE-03D2844A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D150-83B0-46EC-B689-7F670AED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775F-CB8C-4E1D-ADD3-83EF6298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E4B59-1C5C-4167-9F46-261CE58264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