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71570"/>
        <c:axId val="13576092"/>
      </c:barChart>
      <c:catAx>
        <c:axId val="51971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76092"/>
        <c:crosses val="autoZero"/>
        <c:auto val="1"/>
        <c:lblAlgn val="ctr"/>
        <c:lblOffset val="100"/>
        <c:noMultiLvlLbl val="0"/>
      </c:catAx>
      <c:valAx>
        <c:axId val="13576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71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357-44B1-461B-AF64-C5202879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1DE-8A03-4B07-A748-5A0F6296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AFB-DBC8-4296-93B4-179C9A39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8C1-AEC6-4570-9315-F9FD6C7B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EF2-C2F0-420E-8E70-B78D0EAF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A09-94CA-498D-A694-397912BA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637-EC01-4B90-9A71-99A2D36B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31F-D0B3-4810-873B-402DB7CA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AB5-CB69-450F-9F60-E2D209E5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29E-48E6-485B-A08C-11F679E2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F98-7501-49B3-BC07-D3D2C693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A01-B1B7-4C22-B6FC-2797566F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0BE1D-859F-4F2D-9222-4D991A752E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