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13205"/>
        <c:axId val="42953401"/>
      </c:barChart>
      <c:catAx>
        <c:axId val="14132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53401"/>
        <c:crosses val="autoZero"/>
        <c:auto val="1"/>
        <c:lblAlgn val="ctr"/>
        <c:lblOffset val="100"/>
        <c:noMultiLvlLbl val="0"/>
      </c:catAx>
      <c:valAx>
        <c:axId val="429534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32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DA26-7E9F-466C-A9A2-116B6036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9996-541A-4187-9CEE-5DF72CB1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4DE9-413D-4104-8CA1-26B2CE45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E44F-C606-47C6-99BB-6AA7B99D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3334-FF7E-415B-AFD5-754CC318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606B-DA62-41A4-ABF1-CA69AD4F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E3FC-00F4-499C-87C2-69ED7859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0305-E3B1-4746-AADE-36A74DBA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FB5F-028E-4DEF-88BD-CCEAA9C5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AD8F-26B4-43FB-801D-B9DE3C14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6C82-F8E2-41CD-ADC9-FE124EF4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59D2-3527-42C8-8BEE-4D4EEBA6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4DA85-2915-4E9B-8293-C11F5D12E3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