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208181"/>
        <c:axId val="75264800"/>
      </c:barChart>
      <c:catAx>
        <c:axId val="432081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264800"/>
        <c:crosses val="autoZero"/>
        <c:auto val="1"/>
        <c:lblAlgn val="ctr"/>
        <c:lblOffset val="100"/>
        <c:noMultiLvlLbl val="0"/>
      </c:catAx>
      <c:valAx>
        <c:axId val="752648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2081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36AC-63AE-44E4-A128-632CA5527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20F6-9E9D-4839-9346-0D796BBC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EF23-4DFE-4634-9EA9-340FF9EBD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FECB-293E-4A9D-B69B-82932FA7C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448C-DB5C-414C-AD78-3F281A8F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7B89-57F5-4FED-975C-23FE8C29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67C5-EA3C-474D-BEBF-CEF24952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E0C3-33A4-4CF0-BE62-8E4602E0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D118-0CF0-4E53-8381-94D60410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C3FB-B58E-4054-A4A2-B5E1FD8D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F3CE-D0D8-4A18-A7AB-CC87E1AB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AC0D-E15E-4B69-A935-7DE61FB4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873F2-212A-4C55-AA87-ECED1A06D2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