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98295"/>
        <c:axId val="31111507"/>
      </c:barChart>
      <c:catAx>
        <c:axId val="90298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11507"/>
        <c:crosses val="autoZero"/>
        <c:auto val="1"/>
        <c:lblAlgn val="ctr"/>
        <c:lblOffset val="100"/>
        <c:noMultiLvlLbl val="0"/>
      </c:catAx>
      <c:valAx>
        <c:axId val="31111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98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6AB-1928-4C42-800D-A90E0994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2DB-8B06-4F4F-A841-3BC19F69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122-34FC-4E19-ABFB-A95DCB78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DBE-7988-4E7A-A75A-3C8CE5C7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557-9685-49EE-8BAC-D56B9D08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A92-A2AC-44F1-9B70-2F2F0E6D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BB7-679E-4590-B977-6ADE1318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8E1-F173-4763-AE98-8043107C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B11-18F5-4D24-A5BA-353DDBEF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E1A-A903-4BCC-88BE-2519E507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211-3321-4615-A499-E1F039F2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C50-E3F4-45F8-8C42-11CD103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8B51A-E644-4C96-80C8-1B38D49B91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