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56077"/>
        <c:axId val="99147104"/>
      </c:barChart>
      <c:catAx>
        <c:axId val="98856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47104"/>
        <c:crosses val="autoZero"/>
        <c:auto val="1"/>
        <c:lblAlgn val="ctr"/>
        <c:lblOffset val="100"/>
        <c:noMultiLvlLbl val="0"/>
      </c:catAx>
      <c:valAx>
        <c:axId val="99147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56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D92-FEC4-402E-9BD9-7076FAC1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4FD-55B5-49E6-930D-B82DAC65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9B6-897E-42C9-9D82-5B81BBFF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D46-8B3E-4990-BB44-58869645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1CC-53D7-47BC-B643-EDC0BC5E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6D3-DD00-41EF-ACE3-57C942D9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4D5-74DD-4FAE-A1DA-F8B196D7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55E-84D9-44FA-8994-F281A0BC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CEB-4383-4EC4-82AC-E3FE5636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ACA-FFED-4595-862D-956C140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CE1-16FE-4584-A6A8-55B8215F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425-AB99-4D9B-A544-5A5DBF34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23384-41AE-476D-AD47-09A3C4AA70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