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31972"/>
        <c:axId val="52238356"/>
      </c:barChart>
      <c:catAx>
        <c:axId val="60831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38356"/>
        <c:crosses val="autoZero"/>
        <c:auto val="1"/>
        <c:lblAlgn val="ctr"/>
        <c:lblOffset val="100"/>
        <c:noMultiLvlLbl val="0"/>
      </c:catAx>
      <c:valAx>
        <c:axId val="52238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31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E2F-F42E-45B1-A8C2-DF4D1B5B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73A-17F0-495F-A0DF-1EEA1C19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EF5-D5A7-4059-BF65-2695FED4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394-090B-498F-842C-F7AEDDEB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C36-4ACC-4117-A240-C3F8B02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5F6-28EA-4DC0-97D4-4955B39E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14E-8A10-4BAE-BFE7-78007C00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CBF-DFF5-4281-9450-4D329EE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5E0-CD72-4444-9E8D-5256356F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720-175D-4F9F-B521-DDEC093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FD7-C6F7-4184-BF3B-882F7D7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C5D-2524-41A0-9A85-24EE3488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19B34-490F-4E6C-B436-BE06CE38C3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