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43148"/>
        <c:axId val="15698568"/>
      </c:barChart>
      <c:catAx>
        <c:axId val="67643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98568"/>
        <c:crosses val="autoZero"/>
        <c:auto val="1"/>
        <c:lblAlgn val="ctr"/>
        <c:lblOffset val="100"/>
        <c:noMultiLvlLbl val="0"/>
      </c:catAx>
      <c:valAx>
        <c:axId val="15698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43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940-9075-4854-81F5-7EEA3132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843-0594-4D31-9E2C-EFF97AD7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615-C180-4C1E-B9F9-3A73F3B8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79A-BEF2-41E0-BD28-C0030D09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A60-5CFE-4E2E-953D-B43B6DB2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534-7B98-4971-A747-1EB1FCD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819-D07B-4BEB-AD54-09BAE2EF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24B-7009-4611-A4FE-7DD80D13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A02-6C60-4FD3-9882-6191A2E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232-C3C5-412B-BE4D-9891B70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BD4-81BC-483E-B0D8-CC44E77D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8D4-62F8-44B9-83AE-75C80940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7A60F-7E85-4F45-A4C4-DD34AF4EB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