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5917"/>
        <c:axId val="22602014"/>
      </c:barChart>
      <c:catAx>
        <c:axId val="5265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02014"/>
        <c:crosses val="autoZero"/>
        <c:auto val="1"/>
        <c:lblAlgn val="ctr"/>
        <c:lblOffset val="100"/>
        <c:noMultiLvlLbl val="0"/>
      </c:catAx>
      <c:valAx>
        <c:axId val="2260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5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08E-03D6-4239-AFAA-32D39BB7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B65-7605-4DC5-9571-DAA7CDB2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913-126F-450F-9D56-0A1F8C42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ACC-2B72-495D-9823-603F07F0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EAF-38CF-4BE0-9766-B28824EC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E23-FB66-4050-A6D6-1CCB7F0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AE2-AC07-488C-9CAA-D2B999A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797-65D2-4A0D-A5C4-F4AFB04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AE0-DC0D-401F-8C4A-871FD4DD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0AF-345B-4A4F-BF7C-38925F5A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AA2-D228-40B0-A155-DABAD9A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280-751A-4401-888B-E7AD231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FD514-359D-4DAF-9CE4-FCDDAF174F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