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67829"/>
        <c:axId val="59222971"/>
      </c:barChart>
      <c:catAx>
        <c:axId val="35567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2971"/>
        <c:crosses val="autoZero"/>
        <c:auto val="1"/>
        <c:lblAlgn val="ctr"/>
        <c:lblOffset val="100"/>
        <c:noMultiLvlLbl val="0"/>
      </c:catAx>
      <c:valAx>
        <c:axId val="59222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7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68B-21DD-4C37-ADE6-E3BD00AA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3DE-8026-42E9-8A3F-DCB0B8E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035-448A-44FB-B372-878D456F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35F-E3F9-4394-8246-104EA74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F9E-41AC-4A6D-B78E-A49D42C1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FFD-FF93-4CF0-B4D8-7937F69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C05-36FA-48BF-80E7-552BDE2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144-2B8A-443F-A8DB-B1CC9982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214-4F77-4477-A2EE-B1C7F373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60C-CE8B-4B8F-8D33-F47C432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D49-062F-440A-AF86-A4664DC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3A5-4A46-4CD2-8DD9-BEB8F35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9D2F-77B4-4FBA-BEF2-0A5C16476B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