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577918"/>
        <c:axId val="28878954"/>
      </c:barChart>
      <c:catAx>
        <c:axId val="505779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878954"/>
        <c:crosses val="autoZero"/>
        <c:auto val="1"/>
        <c:lblAlgn val="ctr"/>
        <c:lblOffset val="100"/>
        <c:noMultiLvlLbl val="0"/>
      </c:catAx>
      <c:valAx>
        <c:axId val="288789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779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FACB-C97C-4ED2-9E40-C616A15C7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9A97-282F-46AE-B27E-5F8456A6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3438-82E7-452B-BF6B-E210A82F9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5661-C9D7-42AD-A2D4-804A6B5C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3C7C-B8FE-4DC2-B8C6-F627FAE6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82DA-5300-4432-9EA9-C2402D44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B017-37D3-4CEB-AB62-E679161C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8176-7D31-4A8F-980F-AB5578B9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58A9-2E81-409D-972D-03605D41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A62F-E12C-4039-8B3C-4FC6F70B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F6A6-16CD-4627-BBC7-D2C36798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D51A-4437-47CB-8672-F46CF9B1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2FC2C-9CB3-4A43-8EE2-6D72648B94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