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12486"/>
        <c:axId val="44834893"/>
      </c:barChart>
      <c:catAx>
        <c:axId val="57212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34893"/>
        <c:crosses val="autoZero"/>
        <c:auto val="1"/>
        <c:lblAlgn val="ctr"/>
        <c:lblOffset val="100"/>
        <c:noMultiLvlLbl val="0"/>
      </c:catAx>
      <c:valAx>
        <c:axId val="44834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12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A7C-396E-48CD-B0EE-C00604C4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655C-94C8-46CD-8363-C7D8C259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D43-C40C-4759-8B91-DEDEEFA9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4A3-8DD4-4647-9074-8FCCAA9B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042-3A27-475D-B6F2-5A260C92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7D9-5549-4217-B65F-9A278F82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06B-0227-4844-B242-DEF1F2BB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B5D-F0F6-423C-BC99-7C40189F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F14E-7B3D-407D-AA07-A7F9B5F6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6A5-68C7-4722-AFCC-D6D881B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E95-B614-4FD2-8C0A-A249EA96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25E-2685-41DF-BAC7-BD84A325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3A59A-AFCA-44F1-B5F2-A1E0CBDEC4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