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70314"/>
        <c:axId val="59085146"/>
      </c:barChart>
      <c:catAx>
        <c:axId val="35270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85146"/>
        <c:crosses val="autoZero"/>
        <c:auto val="1"/>
        <c:lblAlgn val="ctr"/>
        <c:lblOffset val="100"/>
        <c:noMultiLvlLbl val="0"/>
      </c:catAx>
      <c:valAx>
        <c:axId val="59085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70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D5E-A455-4EB5-8382-707FBF41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5AF-38D3-4022-8C4D-56B12D33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334-6FBC-417E-BEE1-E832DD8E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292-07E4-4AC9-8424-D06C08F2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778-14A6-4D5F-9167-13D65E1A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B30-35DF-4706-B6BE-686061DC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4A3-D595-4AB4-98A1-4D894011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06F-24C2-4F77-8D9C-89CD3A47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2F2-2E5C-4D79-BC8B-0DFB5EDA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ECF-2E49-4164-8D1A-0EB80073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FDE-4194-4DB5-99FB-F7BA220B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12BF-ED53-481E-A222-E25ABAA9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EF011-F9B3-459B-83DD-D1EC485AC3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