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68618"/>
        <c:axId val="11327464"/>
      </c:barChart>
      <c:catAx>
        <c:axId val="72468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27464"/>
        <c:crosses val="autoZero"/>
        <c:auto val="1"/>
        <c:lblAlgn val="ctr"/>
        <c:lblOffset val="100"/>
        <c:noMultiLvlLbl val="0"/>
      </c:catAx>
      <c:valAx>
        <c:axId val="11327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68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F92-E1B2-4C73-A778-D2161A89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258-E75B-4890-82E0-271A74D8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5B7-DBC2-49B4-B81A-4DAACBCE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357-1921-4E64-B6BC-8EFF398F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BC6-8863-442F-8EC5-FC639DC8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0CE-BE2A-4C7F-8A8E-E7675840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6BC-875F-4702-B2A8-943E7EC5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F00-478C-4272-8A6F-1EF8C4BF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BEA-C41E-4024-B43C-C6F6120D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FB1-BD14-4218-8CE6-D2B0BCD0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53A-7E59-4CD3-935F-39C1B8E2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C81-8E07-40B4-B2DA-16F64F11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EA2F9-DB75-4BBD-BFA6-ED7CD398CA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