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66598"/>
        <c:axId val="9107126"/>
      </c:barChart>
      <c:catAx>
        <c:axId val="606665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7126"/>
        <c:crosses val="autoZero"/>
        <c:auto val="1"/>
        <c:lblAlgn val="ctr"/>
        <c:lblOffset val="100"/>
        <c:noMultiLvlLbl val="0"/>
      </c:catAx>
      <c:valAx>
        <c:axId val="9107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665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F1CD-B7B2-4598-99AA-18A85B79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990C-646C-47C3-AB12-7DBC56BB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C23-A90F-4C15-9C4E-60C946C9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C80-09B9-4A06-A3B6-0636CB29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2F4-CD13-44C4-936E-6A97E81A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0C0-CA6B-4994-B8AD-0E190C44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3D13-8CF4-4671-AF33-D465F3B4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CF75-5395-4609-AB5E-2859270F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F59F-B3A1-424E-A102-0C332A96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FA7-9EF3-4CEE-B833-78AA3501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B78-317D-47B1-9DF9-E47874F9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C0F4-8067-4049-9E00-F5B178FA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B93F1-05A1-431C-8048-5775429407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