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937865"/>
        <c:axId val="79620893"/>
      </c:barChart>
      <c:catAx>
        <c:axId val="709378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620893"/>
        <c:crosses val="autoZero"/>
        <c:auto val="1"/>
        <c:lblAlgn val="ctr"/>
        <c:lblOffset val="100"/>
        <c:noMultiLvlLbl val="0"/>
      </c:catAx>
      <c:valAx>
        <c:axId val="796208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9378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97E6-60E1-4AD5-96EE-E861CFC06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53DB-8D94-4F99-852A-6FACBDBE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350B-79D3-4E91-9C25-59928DB24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7449-FEEC-4C3F-8AEC-3E6F7005B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BCE1-5C66-423D-998A-1334E76B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79D7-2946-4676-813A-F3CCEE1B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0AED-E22D-4D83-803A-08E3020F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EE7A-8F30-4D0B-A7F2-B5F57706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101E-CC18-4760-AF1A-B8795EF5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A17C-B9AF-4D42-8B84-2258935C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E5C6-DBFB-4A11-BA98-99625D39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359D-6357-43EC-BE16-990BAC17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C1187-D54C-42CE-8400-028FF0FABE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