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81361"/>
        <c:axId val="61379540"/>
      </c:barChart>
      <c:catAx>
        <c:axId val="50281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79540"/>
        <c:crosses val="autoZero"/>
        <c:auto val="1"/>
        <c:lblAlgn val="ctr"/>
        <c:lblOffset val="100"/>
        <c:noMultiLvlLbl val="0"/>
      </c:catAx>
      <c:valAx>
        <c:axId val="61379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81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379-F379-46B4-A4B0-6C6CB6D2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20F-C32C-4CD7-97AD-A6E0BFBA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1A2-CC69-4797-8CE2-0FD440B6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C0A-6D9E-47E4-AA03-1E23FDB6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64D-70A4-4B69-8B76-462BC6E5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297-066F-4A46-9D85-24DCD20D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5B7-E39F-4539-8E1A-B6D8EAC3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AB8-F84E-42AF-8312-D978BF45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2B1-6657-46E1-BA13-7D8BDBE0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799-57CD-49CE-A63B-6141DA05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F0F-CC05-4EC2-A3FB-88ECBDA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D24-BE85-4A37-B46A-4D882C7F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D45C0-04DA-41C0-91A8-7D8ECA8116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