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58839"/>
        <c:axId val="9217030"/>
      </c:barChart>
      <c:catAx>
        <c:axId val="64758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7030"/>
        <c:crosses val="autoZero"/>
        <c:auto val="1"/>
        <c:lblAlgn val="ctr"/>
        <c:lblOffset val="100"/>
        <c:noMultiLvlLbl val="0"/>
      </c:catAx>
      <c:valAx>
        <c:axId val="9217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8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F57-D718-460A-A5A9-30D4FA6B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9D0-1F99-4068-B523-23D47F56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4A2-58FF-4DCF-8866-95CBB166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5B6-6A8A-41BB-BE08-CBD4C5B1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3C1-107C-4279-A6B2-3A1AA6F3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A1B-EDD7-4B23-847D-5CBF6488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F66-EA26-4CFE-A4EF-770128D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709-9DA7-477B-9137-03AF3ED2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098-DCCC-472B-AED9-DE0E3761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2EB-48E9-46D5-A811-A6E0E62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10A-82CF-4287-AFCB-57F3EC2B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594-87AC-4EB8-9945-B2AE10B1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47806-5539-4A70-BA9D-3C98FF7B6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