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45643"/>
        <c:axId val="34031015"/>
      </c:barChart>
      <c:catAx>
        <c:axId val="23945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31015"/>
        <c:crosses val="autoZero"/>
        <c:auto val="1"/>
        <c:lblAlgn val="ctr"/>
        <c:lblOffset val="100"/>
        <c:noMultiLvlLbl val="0"/>
      </c:catAx>
      <c:valAx>
        <c:axId val="34031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45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6DB-2ED6-4C1D-8806-295F527F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A5B-990A-4559-96D6-0577F1B7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D33-1D5A-40B2-BAC5-C21302B5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74E-1C4D-4D84-85BA-70703CBD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A1C-0238-4FE7-82BC-F38DF001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AB8-3168-45B7-B677-E34D58F9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D64-A897-4372-A360-2B3FD5E8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7BF-AEFE-44D2-930A-43AD2A14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F06-6A22-4888-B57A-8A2358EF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275-6A90-4DF2-B7AA-4BD16D9B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72A-2E5C-436B-B3E9-3035F686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D79-ADAC-432D-9F1A-C16CE840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77354-5A44-4987-B7F0-AAFE9AC5D5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