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57917"/>
        <c:axId val="61429473"/>
      </c:barChart>
      <c:catAx>
        <c:axId val="31157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29473"/>
        <c:crosses val="autoZero"/>
        <c:auto val="1"/>
        <c:lblAlgn val="ctr"/>
        <c:lblOffset val="100"/>
        <c:noMultiLvlLbl val="0"/>
      </c:catAx>
      <c:valAx>
        <c:axId val="61429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57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6CD-C98E-4349-9B28-30972329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8EF-FA6B-439B-B97A-169FD16A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9958-3497-462C-890A-8F5E84E4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1B6-56EA-4FE5-8978-1C9CCC9E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D08-E3CF-4D89-B9E2-D5BF494B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5AA-E572-44A7-8100-D6E53F3C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743-1C0F-4A08-A157-3A94DDB4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415-A958-49B8-BEE6-30021BCF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72E-0938-4854-830C-76C07AAA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E31-22CE-4370-A9C3-7326C908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BF80-863C-4AAA-AD06-1123AB93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FD6-3457-4F26-8194-6F6FAB77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5A704-F185-4414-868E-F2FEBB88B9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