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34926"/>
        <c:axId val="48485528"/>
      </c:barChart>
      <c:catAx>
        <c:axId val="82934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85528"/>
        <c:crosses val="autoZero"/>
        <c:auto val="1"/>
        <c:lblAlgn val="ctr"/>
        <c:lblOffset val="100"/>
        <c:noMultiLvlLbl val="0"/>
      </c:catAx>
      <c:valAx>
        <c:axId val="48485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34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E430-1F32-4E35-9033-D53A619F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D49-8C83-4E3E-911E-69290D15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532-B7C6-48C2-8F87-59592810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0039-3141-4C68-918E-F8FB8BAB8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78B-95CD-451D-96F0-C03378AB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927-9D1D-4FB4-87F7-4671E9CC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AF7-C673-4EB9-8855-AD81267C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9C0-2FC5-4B79-87E4-F4A60FEB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E1C7-5E9C-48F2-8632-085F5E21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7CA-DBE0-4B98-872C-77D557BA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6990-56ED-49E2-8247-1EB70C5F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955F-A3FD-4B29-80AD-7D404BE7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94AB4-5CAD-4B55-9144-140D4E3AB9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