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883063"/>
        <c:axId val="18035694"/>
      </c:barChart>
      <c:catAx>
        <c:axId val="238830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35694"/>
        <c:crosses val="autoZero"/>
        <c:auto val="1"/>
        <c:lblAlgn val="ctr"/>
        <c:lblOffset val="100"/>
        <c:noMultiLvlLbl val="0"/>
      </c:catAx>
      <c:valAx>
        <c:axId val="18035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830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D21-C9F7-439B-8F21-24AD22C1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17FE-6652-4923-BCB0-42ECB250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057-CC60-44F3-A17B-95E5E41C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17A5-760D-4911-B4AB-65A95F7B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278-C94F-41A7-A7C4-87E65AF6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674-0095-4C1D-BABB-72A88A0E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464-81AA-45B0-A2AC-6F5186E7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22D-E923-41AD-9D91-80FA891C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5E9-4E6F-4AF9-983F-0570F591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6A8-7767-4791-A8B3-148FCD3C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F228-BB7E-4327-91F9-FA68728C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90B5-F3E8-4AC6-ADD9-7C6B85D1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2460C-028C-43F5-A526-BF4E81722C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