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33375"/>
        <c:axId val="28691939"/>
      </c:barChart>
      <c:catAx>
        <c:axId val="13033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91939"/>
        <c:crosses val="autoZero"/>
        <c:auto val="1"/>
        <c:lblAlgn val="ctr"/>
        <c:lblOffset val="100"/>
        <c:noMultiLvlLbl val="0"/>
      </c:catAx>
      <c:valAx>
        <c:axId val="28691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33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0EB-2804-42EC-8994-DDAF50C2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4F8-FF67-4592-937C-C142809F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C0A-9A2F-4C2B-949B-E50479D4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E9B-BA0C-4C5B-8535-64F1E1F7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680-85B3-469B-A043-453F3021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592-0969-48B9-A899-EB0DB4A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B02-7384-42D4-84D1-07486882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D72-E965-4F45-B6FF-B136CB3A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E77-0394-4AD5-8DBD-F6C97817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7DE-36F7-4996-87DD-4658D80E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3D4-7248-4F49-B185-DB3ADB7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3AC-C6BF-4B4D-9C52-4DA5E85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86F75-F2BA-4870-88BF-65A1BA290C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