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989154"/>
        <c:axId val="2396270"/>
      </c:barChart>
      <c:catAx>
        <c:axId val="219891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96270"/>
        <c:crosses val="autoZero"/>
        <c:auto val="1"/>
        <c:lblAlgn val="ctr"/>
        <c:lblOffset val="100"/>
        <c:noMultiLvlLbl val="0"/>
      </c:catAx>
      <c:valAx>
        <c:axId val="23962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9891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7520-A822-4224-89F5-EB3D80D95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B856-2B85-4532-BC8B-D81EA4816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BC84-4905-499B-B51D-2758D8CB4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BAEF-AA00-45B9-984B-B679B2947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AD3F-0909-4CE8-B031-DD954A310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F270-DC5F-4F3E-A90F-5526AF5E4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90C3-E3A0-49D7-8B40-82744DBE1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5C78-5DA6-45B3-8E10-C76A0E93E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7DF4-F01B-464D-AEDB-E3E5233B3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37C4-5E67-4939-8A2E-4ED1BE5A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05BE-8104-47A6-B4A3-6C27AE8E7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49B8-58B5-4C62-A759-803622B2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7DA369-AA84-4DA1-9608-7AE3B9210B8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