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07918"/>
        <c:axId val="79912618"/>
      </c:barChart>
      <c:catAx>
        <c:axId val="98907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12618"/>
        <c:crosses val="autoZero"/>
        <c:auto val="1"/>
        <c:lblAlgn val="ctr"/>
        <c:lblOffset val="100"/>
        <c:noMultiLvlLbl val="0"/>
      </c:catAx>
      <c:valAx>
        <c:axId val="79912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07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696-766E-4124-BC03-D1B7FC77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8C5-B4A8-4904-9D94-CF2033FD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32B-BE66-4FE2-A90A-8861CF85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337-A4A6-4450-90EC-5FE636E4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6C8-152D-4D8C-91A9-DA6BE32B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529-5D7B-43DC-AA4C-7E379F02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1E9-E368-40D1-A1B6-E2E1F4B9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B5F-D649-41B6-9A23-11F41310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523-CDCC-499F-AB9E-E8CF353B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0F7-F035-4D69-A3CA-285D2E64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3F5-DDF4-4832-A600-46B3A298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94B-B015-4875-89A6-EB20FD5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C5AA2-78A9-44BD-9823-A9D3AED98E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