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25613"/>
        <c:axId val="85649959"/>
      </c:barChart>
      <c:catAx>
        <c:axId val="57225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9959"/>
        <c:crosses val="autoZero"/>
        <c:auto val="1"/>
        <c:lblAlgn val="ctr"/>
        <c:lblOffset val="100"/>
        <c:noMultiLvlLbl val="0"/>
      </c:catAx>
      <c:valAx>
        <c:axId val="85649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25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5DB-359C-415D-BCD5-25289509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E40-DFEB-4790-BCEB-DCB540D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9C5-ED80-457F-871E-E7B8BD19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002-AFA6-4013-825F-32199C14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B8A-34C0-4555-912C-9886EAB9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97E-46F0-43BF-BD03-74310B45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0F6-BBFA-4075-B828-AF7048CE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DC4-1FFB-435E-A9C6-9FF93F61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B59-2EAF-4C69-B997-16C05971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035-E5F0-42F2-B3FF-E9225C3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661-754E-408E-93E6-6D48BEBB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E8E-D957-45C8-8A82-85F79E4B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E7E4D-AEC0-426A-91BA-D1B27B09A2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