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89307"/>
        <c:axId val="31347202"/>
      </c:barChart>
      <c:catAx>
        <c:axId val="5089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47202"/>
        <c:crosses val="autoZero"/>
        <c:auto val="1"/>
        <c:lblAlgn val="ctr"/>
        <c:lblOffset val="100"/>
        <c:noMultiLvlLbl val="0"/>
      </c:catAx>
      <c:valAx>
        <c:axId val="31347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9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518-D99C-4FD8-A89A-899E9BEE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50D-824F-40C1-8027-69A78DC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F12-C883-4D6D-9C99-4ACA005B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5D8-C11F-4BF1-B4CC-611790D5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9AE-B5A4-4C9E-931F-7F0C513A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86E-2D2B-46C7-8535-D10B276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B16-5BB7-4141-B479-BBDEA24D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50B-B8EF-46D7-ABBB-DB783461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458-7CBC-45A1-BF10-474F714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989-A76E-4F5B-95AD-B64E38D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79D-3D2F-410E-9456-2913E20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CF6-1424-46FD-9E9F-A2912C8B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6664-AF33-4B31-813C-428439602B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