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80060"/>
        <c:axId val="75038545"/>
      </c:barChart>
      <c:catAx>
        <c:axId val="402800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38545"/>
        <c:crosses val="autoZero"/>
        <c:auto val="1"/>
        <c:lblAlgn val="ctr"/>
        <c:lblOffset val="100"/>
        <c:noMultiLvlLbl val="0"/>
      </c:catAx>
      <c:valAx>
        <c:axId val="75038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800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5D93-5906-4748-8803-BD4BF9F1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B81-2930-46AE-B980-12EBFEB4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44A5-067E-44C0-8750-9862FC22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D3F-8C3B-426F-A6EA-9DF750AA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C4A3-F8C9-4639-A967-5A2798A3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0B8D-A539-4302-85E1-13056AA5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8C5-3262-4FC9-A53B-5E97971F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B71F-94A2-4189-85A6-997B2D0B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3FD5-0BE9-436E-A6CD-577B13A4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9AB7-CC72-44A8-AB25-DDFF2F07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685-3633-4DF6-B4BD-D33A0E8B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7228-94E9-4F87-816F-109DBF45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F1481-4B3C-4961-B835-B2DA11249F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