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55326"/>
        <c:axId val="66602487"/>
      </c:barChart>
      <c:catAx>
        <c:axId val="44255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02487"/>
        <c:crosses val="autoZero"/>
        <c:auto val="1"/>
        <c:lblAlgn val="ctr"/>
        <c:lblOffset val="100"/>
        <c:noMultiLvlLbl val="0"/>
      </c:catAx>
      <c:valAx>
        <c:axId val="66602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55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DBC-794C-4612-9643-78887C97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0BA-CE37-4859-BF60-64B370A9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4CA-DD77-4AF0-9DA2-756E73F7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9C2-30C3-4D13-AF86-493E4B41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13B-D250-42DF-B089-E640B2D8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F29-63D4-41B5-974C-34EECC1B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F44-2DF2-4EFA-B5A3-496A1E6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4C7-4EFC-47DB-BDA7-A2E1E082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64F-7737-4975-AFF8-521236BB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F6A-7437-44C7-B289-59E3236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66D-F84C-496A-B76C-1DDA9DD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148-00E0-4BA9-B0CA-08341C0F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30371-924F-4769-A2E2-22CC0AAC46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