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57145"/>
        <c:axId val="29672371"/>
      </c:barChart>
      <c:catAx>
        <c:axId val="31057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2371"/>
        <c:crosses val="autoZero"/>
        <c:auto val="1"/>
        <c:lblAlgn val="ctr"/>
        <c:lblOffset val="100"/>
        <c:noMultiLvlLbl val="0"/>
      </c:catAx>
      <c:valAx>
        <c:axId val="29672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57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626-26F9-44B9-BD8E-B4D4CF0B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9DD-E6AA-4391-82E8-069F4DD8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2CF-1715-49D5-B04D-4FFBF73C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F60-467F-42AB-B831-B896ED76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DEB-23DB-405D-AE66-0AFBB82E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E63-5B2A-4966-B2F4-693E753F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91E-A80A-4128-B859-F9C1B49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50F-602A-4E58-8323-8C4D5F1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AD5-2A84-43AE-B493-F8AC8C8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A49-76E4-44D3-8D20-E6929F6B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185-7BE2-4BEC-BA7C-BE63135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E18-C9C4-4718-BA47-46E08AF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00796-7626-4F80-9069-4AD0C4888A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