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48124"/>
        <c:axId val="1769973"/>
      </c:barChart>
      <c:catAx>
        <c:axId val="95481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9973"/>
        <c:crosses val="autoZero"/>
        <c:auto val="1"/>
        <c:lblAlgn val="ctr"/>
        <c:lblOffset val="100"/>
        <c:noMultiLvlLbl val="0"/>
      </c:catAx>
      <c:valAx>
        <c:axId val="17699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481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3CB5-6B27-4FAB-830C-A518051D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A407-0C34-41B5-9BFF-2CD53C15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66AF-8CF2-41E3-8F01-BD43499E8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8368-F402-49D7-AEAB-084AF2D5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2278-DDC8-4C74-9522-B6EFB3D0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8BEF-0ED9-4D5E-B25F-D8692A23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04B3-0B7A-435F-BBDE-524A40A9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B48F-0283-4722-A4FB-59C674C5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B05B-B09C-4268-B5CA-A27DFB32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0A9C-A9BD-4906-8943-5CD82209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C5A1-95BD-48D7-AC9A-53E667A4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F44A-5F05-452D-A86C-4645DA97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326D1-FE8E-405F-BFEE-02E2659F6E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