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37522"/>
        <c:axId val="56401635"/>
      </c:barChart>
      <c:catAx>
        <c:axId val="39037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01635"/>
        <c:crosses val="autoZero"/>
        <c:auto val="1"/>
        <c:lblAlgn val="ctr"/>
        <c:lblOffset val="100"/>
        <c:noMultiLvlLbl val="0"/>
      </c:catAx>
      <c:valAx>
        <c:axId val="56401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37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60C-0354-411C-ADE5-B2F187D9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701B-F8FE-4B02-8B2B-9051A84F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F8A4-1F04-43DF-9580-E42BA4C0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17A-CF57-4AC7-8D79-14867036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BBF-09B3-4097-AB03-512BF285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9CD-E84C-4355-A19E-3AB64735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7C8-DB8B-4F24-ABFC-7F693110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40B-082E-43F4-8819-816E625C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FCC7-2DD1-4CB1-9D13-540C6A6A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D49-0C93-4C37-8C31-50389870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845-3318-4C56-9D4A-ACD1DE98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B69-9542-452B-8993-D3CDEDF6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AFBB5-5840-479B-95F7-0C4093B029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