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7920409"/>
        <c:axId val="66151864"/>
      </c:barChart>
      <c:catAx>
        <c:axId val="7792040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151864"/>
        <c:crosses val="autoZero"/>
        <c:auto val="1"/>
        <c:lblAlgn val="ctr"/>
        <c:lblOffset val="100"/>
        <c:noMultiLvlLbl val="0"/>
      </c:catAx>
      <c:valAx>
        <c:axId val="6615186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92040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3601-0FC6-47A6-B575-31C1396AC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AA6C-DDB9-47B8-8D46-CE3216BEF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7369-A2CF-4E92-8B32-957778093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C921-C5E1-4C28-A910-3A2AD0844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7637-B13A-434C-BD9D-4CB73BFB0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60FB-C17C-491F-AA7B-D987DB543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CFCC-C025-4E0C-949F-91A7EBA05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19CC-A372-49E1-86FF-3574565B6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8789-5EA6-4D70-86C3-7653A5307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276D-0500-4756-8FCE-DE3D82577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08D5-56C4-4C45-9670-AB27CCE98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E202-AE95-4A0F-B556-F7959E15C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9FE004-A127-490A-8DB7-B752C080289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