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7431"/>
        <c:axId val="36274433"/>
      </c:barChart>
      <c:catAx>
        <c:axId val="7397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74433"/>
        <c:crosses val="autoZero"/>
        <c:auto val="1"/>
        <c:lblAlgn val="ctr"/>
        <c:lblOffset val="100"/>
        <c:noMultiLvlLbl val="0"/>
      </c:catAx>
      <c:valAx>
        <c:axId val="362744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7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3B8-8E79-49B5-B371-56C17186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FE09-087F-4D2D-8C85-0F0A606E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595-AF58-4554-8066-C8514ED4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55E-C395-44B1-BDE6-BB9ADA06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36D-9B95-4D3F-A07A-4E6B6C4D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944-C953-4072-B542-6E32C74C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40C-57A2-4900-B18A-F2F6AB60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E0F-EA1F-430A-93ED-98FAF4CB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96A4-C3DB-4578-B499-FE584692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489B-1B63-466C-8635-A12CB076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7BD-73D3-45B1-B9CF-7AC8420C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2F0-53C3-4C90-8E85-0C9E50D7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C89E4-4C1A-4CD8-B4A5-17DD1620B8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