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35452"/>
        <c:axId val="85818471"/>
      </c:barChart>
      <c:catAx>
        <c:axId val="11835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18471"/>
        <c:crosses val="autoZero"/>
        <c:auto val="1"/>
        <c:lblAlgn val="ctr"/>
        <c:lblOffset val="100"/>
        <c:noMultiLvlLbl val="0"/>
      </c:catAx>
      <c:valAx>
        <c:axId val="85818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35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240-BFED-4425-A4DF-9F98107A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12B-4C30-4957-ADAB-16B58230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562-0B7C-443C-BF36-74DE8B96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A3C-961B-404D-B36A-86A12242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BE7-87AD-4DB1-BAC3-B441ED5F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B3B-ADE6-49DF-B8A4-6CAF5960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FF0-CED0-4AA7-8314-8F2F2D10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A92-55FA-4A9C-AE00-028D4553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F9C-CA89-4E89-AA7D-E6A9FDFE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323-B914-489E-AF0A-11BD1A6C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541-24FE-4233-A14F-3CBB9542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296-8BF0-4EB0-8F85-90918AF3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CED95-53CA-4404-B5A1-19276A4485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