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65144"/>
        <c:axId val="82617739"/>
      </c:barChart>
      <c:catAx>
        <c:axId val="15165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17739"/>
        <c:crosses val="autoZero"/>
        <c:auto val="1"/>
        <c:lblAlgn val="ctr"/>
        <c:lblOffset val="100"/>
        <c:noMultiLvlLbl val="0"/>
      </c:catAx>
      <c:valAx>
        <c:axId val="826177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65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0B3-ED97-4838-BD7C-59F8E88A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7406-DFB8-4139-97A8-C2BE75CA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B398-D751-4338-A7BE-A71B3E0E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088-FB6A-41EC-9D8C-EE68270E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632-CBE4-4F2F-97AA-E2F73D7E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28AD-F38A-42C2-B682-A021596B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968F-8CAB-4B1C-9013-656B7006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CF3-8F60-4B77-B30E-18FCE6AB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6B7-C272-4F6D-9040-155FCC0B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9A5F-0237-4AD6-877F-2E2267DC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73AA-C13B-4C82-96EF-5F21942B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FC8-E634-4782-ABC7-D29F54B5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9A087-FDB6-419E-B7AC-848C0F0F9D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