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97101"/>
        <c:axId val="99149320"/>
      </c:barChart>
      <c:catAx>
        <c:axId val="74797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49320"/>
        <c:crosses val="autoZero"/>
        <c:auto val="1"/>
        <c:lblAlgn val="ctr"/>
        <c:lblOffset val="100"/>
        <c:noMultiLvlLbl val="0"/>
      </c:catAx>
      <c:valAx>
        <c:axId val="99149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97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1C8-525E-4A70-B6CE-B73F2344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F44-D520-4DE9-B899-DE46DAF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1DA-2B56-4941-BD7F-BBF0C3E5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53C-0BC5-4946-BB4B-3AE2DEB0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EEB-32D1-45EC-8D3A-5401FEE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1FD-58A3-4644-89FD-E8A1737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019-CC86-41A0-824A-8356556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6F9-1A90-46BB-B9D9-7781452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699-DE64-41AC-867A-7650278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8C2-7B30-453F-B3B9-DDC6BDA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275-0C68-4E9C-9115-F79D7F1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26F-767D-4A0F-B53C-26A5FCD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90A89-FCAB-4C79-BE66-CF9069137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