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590213"/>
        <c:axId val="77035301"/>
      </c:barChart>
      <c:catAx>
        <c:axId val="445902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035301"/>
        <c:crosses val="autoZero"/>
        <c:auto val="1"/>
        <c:lblAlgn val="ctr"/>
        <c:lblOffset val="100"/>
        <c:noMultiLvlLbl val="0"/>
      </c:catAx>
      <c:valAx>
        <c:axId val="770353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5902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7678-BA44-4A35-8325-67038112F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4BAD-D847-4F96-8823-EE5A7C2A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440C-4AAB-4F45-B77C-E3CDEED70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A44C-9E5D-4C29-94D1-7E7DFFE84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5651-B54C-4E27-A6DF-895578B2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198B-D871-4733-9E08-F096D1D9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4679-0DBD-4E7C-A894-C6E6A9DA0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CA6C-D2E6-4AD6-BC22-4B999C13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5ED4-8E47-4AD5-BCA6-56276474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6AFD-E2D9-45E6-90E6-242A6F42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616B-91DE-40F9-B411-3D36A93A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9BB1-8870-4C40-80DF-46D595A4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B6C64-55A6-4F81-82B5-993C226249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