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709387"/>
        <c:axId val="45530575"/>
      </c:barChart>
      <c:catAx>
        <c:axId val="917093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530575"/>
        <c:crosses val="autoZero"/>
        <c:auto val="1"/>
        <c:lblAlgn val="ctr"/>
        <c:lblOffset val="100"/>
        <c:noMultiLvlLbl val="0"/>
      </c:catAx>
      <c:valAx>
        <c:axId val="455305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093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D2D5-97A5-41BD-9A64-75AEEAD8E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D25A-35DB-4ABE-8C77-2B07A53D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D0C7-0F36-49C9-8DE9-66932000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1480-68DF-4C43-B41C-35710CEB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9BD8-44E0-4D54-9BC3-7E934D2C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8F84-3642-4D2E-9039-69440E61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7333-0591-46BC-8601-AEA5196D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6F40-C063-4DB8-82F0-4139CB77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0045-A21C-4ABF-A754-FB6D913A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A40A-79F2-4228-A7DE-4EFCB76F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F530-30B4-4EE1-ABD0-BB2AA006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0E50-831F-4707-BA95-58258647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8FDAC-745A-49DB-904D-8CB1DABF4E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