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704446"/>
        <c:axId val="45294513"/>
      </c:barChart>
      <c:catAx>
        <c:axId val="98704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94513"/>
        <c:crosses val="autoZero"/>
        <c:auto val="1"/>
        <c:lblAlgn val="ctr"/>
        <c:lblOffset val="100"/>
        <c:noMultiLvlLbl val="0"/>
      </c:catAx>
      <c:valAx>
        <c:axId val="45294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04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FFB-8765-482B-BA5F-910BAE09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BC8-3D45-49B0-9BF8-6F20BC8F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A0F-89B8-4DA4-B220-64340533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B63-455C-464A-A0E8-AC6D7F7F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599-A087-48EC-B96E-E8A53453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7C9-2DDB-405D-B619-E57BF520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71C-6F91-402B-BA24-38DB69B5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966-4FF6-42EE-BF27-D9106865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B75-E994-47D0-B858-B749CAD9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E8A-661F-426F-9C5E-2A0C337A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907D-CFC4-4C59-8DFE-BED4DD7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0C3-D88A-4A14-B1F3-16DDA92C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7F9B6-328C-45B4-A70A-32DB7FA457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