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117746"/>
        <c:axId val="41803339"/>
      </c:barChart>
      <c:catAx>
        <c:axId val="571177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03339"/>
        <c:crosses val="autoZero"/>
        <c:auto val="1"/>
        <c:lblAlgn val="ctr"/>
        <c:lblOffset val="100"/>
        <c:noMultiLvlLbl val="0"/>
      </c:catAx>
      <c:valAx>
        <c:axId val="418033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177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023F-57E4-4421-A13E-272767E2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8C6F-CE3D-4545-BEA9-B2913AEC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BD88-C2CD-44D8-B5A7-3B24121A3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83C3-09FA-481B-8A60-D7DF277A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11A2-B8F0-48FF-AE41-83F7EDE5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6244-E584-48FB-94A7-13C9D3C4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F255-DE99-49C9-B2B0-56EDFC54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F4C3-633F-4BF2-A019-FF86A302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AFDF-C16D-4F63-B2E2-2595F39A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1847-70A1-4C9D-9C60-8541639B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E551-55D8-46E6-BA38-2AC0E460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D74D-87A7-4D95-B994-9347C707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CFC85-41AC-419F-B422-2D4E16FA10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