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919468"/>
        <c:axId val="96122378"/>
      </c:barChart>
      <c:catAx>
        <c:axId val="779194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122378"/>
        <c:crosses val="autoZero"/>
        <c:auto val="1"/>
        <c:lblAlgn val="ctr"/>
        <c:lblOffset val="100"/>
        <c:noMultiLvlLbl val="0"/>
      </c:catAx>
      <c:valAx>
        <c:axId val="961223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194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B2A1-62A1-4E9B-A9A0-63249FA7D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52F5-D3E5-420C-ACF6-6557258F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A3D9-119F-4C4A-9555-526953FDD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3D6F-E916-47EC-BF5C-4CDC8D0F1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10FF-9E09-46FB-B838-1D70BC73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47AB-5E64-41C9-AA1D-9E37228F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E63C-0902-4222-A006-D847B373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F113-4E5C-4FCB-B344-E3670430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4812-3E3C-4F44-BB57-6563F134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B869-E9FA-4D12-B768-2DDE41EF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1A58-77AA-4A11-8BFD-8D7EFC3C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623F-B9DA-4B68-869E-0B16EC03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F9E6D7-A21D-4BEE-AA01-EBD995E2A9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