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7253"/>
        <c:axId val="83408315"/>
      </c:barChart>
      <c:catAx>
        <c:axId val="9257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08315"/>
        <c:crosses val="autoZero"/>
        <c:auto val="1"/>
        <c:lblAlgn val="ctr"/>
        <c:lblOffset val="100"/>
        <c:noMultiLvlLbl val="0"/>
      </c:catAx>
      <c:valAx>
        <c:axId val="83408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7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CF1-0FC2-4716-AC48-E33EB91A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21D-DE9A-4BEC-9827-035450F8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5D1-E52B-43AC-A08E-48E4B788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EBE-0825-4040-B953-3B55414E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4C3-B974-4E06-93B2-F4C4C94F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F2B-AE95-4D81-8B88-AFED65BD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214-6389-4F67-9920-20A7ADE8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8CF-0278-47CA-83E9-03CB5D99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AFC-08F4-4BD5-8307-A6666F83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747-9722-42C9-9966-0D05231B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9FA-4772-495C-BEA2-0F87E5EC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2E3-CEBA-4201-B4B3-B79462F4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0C051-D6F1-4133-B49C-D5644DFD39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