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11292"/>
        <c:axId val="73933669"/>
      </c:barChart>
      <c:catAx>
        <c:axId val="30311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33669"/>
        <c:crosses val="autoZero"/>
        <c:auto val="1"/>
        <c:lblAlgn val="ctr"/>
        <c:lblOffset val="100"/>
        <c:noMultiLvlLbl val="0"/>
      </c:catAx>
      <c:valAx>
        <c:axId val="73933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11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1B4-E149-4998-AB77-BA242F48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BD5-09CC-47BC-ADCF-D2AC66AE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8AB-7569-455F-820C-9342FAFB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AE8-16C2-474E-A36B-60F8D94C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D6D-D511-4B3C-B2F0-E0F1A718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F6B-1C19-4FCB-9E35-B90785DA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AA1-CEDA-4D9C-914E-71090A75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6DB-AE00-4459-8E25-D4F323A1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821-1D76-44D0-9E03-7A46D1FB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D3F-CDDE-480E-B4D1-CD8A987D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DAB-97AB-4F72-B044-7BF9F796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0F29-7645-4ED1-A58A-2BEC4073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32A18-A5F5-4318-A31A-80A476FA7D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