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3756810"/>
        <c:axId val="39537557"/>
      </c:barChart>
      <c:catAx>
        <c:axId val="8375681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537557"/>
        <c:crosses val="autoZero"/>
        <c:auto val="1"/>
        <c:lblAlgn val="ctr"/>
        <c:lblOffset val="100"/>
        <c:noMultiLvlLbl val="0"/>
      </c:catAx>
      <c:valAx>
        <c:axId val="3953755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75681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4F0FA-DFC7-4B46-83D6-47C4F2E1D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60DA0-FB57-400E-AE15-E239C50D5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CC5BA-D7E5-48C9-BA9B-6E966BC39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446D0-44B8-4D2C-B11C-F5D49C84C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B87CC-E007-4B94-8603-9F6176394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7D299-F530-4E0E-8706-025457A2F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9F8F7-D7CD-4275-B6EE-1DB35280A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E59C7-9CFC-4991-B468-A86DBB86B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D6B14-1E57-48BD-8B96-689A344AB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90D2E-E3B9-45B3-AAEF-7E4584F4D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C5D87-674C-4D98-B05E-535236F38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4B589-CAC3-4187-97B3-D4FE55F24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5C0B43-907D-49E8-8B94-43BB0C8C0E7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